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566D-8A41-4C25-83A1-72E1E172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3A99-E6DE-4DA3-BF7E-10BF7449D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8C4-AAC2-4660-AA67-B9B4588A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0CE-5FFB-431F-8AD4-26220EAA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0E6-A477-4D84-8993-B2793E84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CFF-DA52-4AC8-B7EB-055BF92A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117-E16F-417A-8B53-8B703B66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98E-7F61-4AF8-87B7-F65A42E4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709-6F8C-4E97-A88C-567FD07B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CAF-2AFD-4B3F-AF28-4A9D1D51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6EC-8F0B-4004-AA36-FAF9060F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D94-535D-48A3-8E04-B4DC280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54D-0001-4425-9254-63E38D2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630-D5DC-402A-8597-4BB39843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B053-A1A5-4C1E-B5DC-D14B80FA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stocke</cp:lastModifiedBy>
  <dcterms:modified xsi:type="dcterms:W3CDTF">2011-10-10T02:52:29Z</dcterms:modified>
  <cp:revision>118</cp:revision>
  <dc:subject/>
  <dc:title>Museum of World Stuff</dc:title>
</cp:coreProperties>
</file>